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D1A-4E75-4E51-8169-F4EECAC8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0F4-2558-42F8-AA95-A273764B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F83-8517-4B3C-B2BC-B3CDF7F8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A5E-2C4C-4E08-AAF6-79856CC0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43E-8CC9-4759-9D9D-29DE3EB6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54C-4AE1-44A3-A136-BE5FCF67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A90-797A-4C5B-BA6F-9178AC2E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B00-7F2C-4966-9DF4-C78FC885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916-EB86-4D7E-A6EC-703E2DA2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CD3-9896-4EB2-B0D8-D47C825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64A-7AD2-4CA4-8055-9CF0BC4D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41A-F12B-4AC2-B7C6-A54D8EE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BBE2-967E-4A3E-9FCA-868487CD7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8329862NhSMZy_ph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معُنا هللوي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علنا أبناءَ الل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ماءُ ما صا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طحينُ خبزاً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اصبَحنا سُكن الله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زيت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اعطى السراجُ نوراً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فَرشنا نورَ الله</a:t>
            </a: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8329862NhSMZy_ph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معُنا هللوي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علنا أبناءَ الل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لولا الحب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كان القلبُ حياً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عَرفنا حُبَ الله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نور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اعطى الوردُ عِطراً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ما نثرنا عِطرَ الله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5:45:11Z</dcterms:created>
  <dc:creator>USER</dc:creator>
  <dc:description/>
  <dc:language>en-US</dc:language>
  <cp:lastModifiedBy>USER</cp:lastModifiedBy>
  <dcterms:modified xsi:type="dcterms:W3CDTF">2003-02-07T13:01:03Z</dcterms:modified>
  <cp:revision>3</cp:revision>
  <dc:subject/>
  <dc:title>PowerPoint Presentation</dc:title>
</cp:coreProperties>
</file>